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084-E4F6-402A-927C-30E28E09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B49-6FA2-4963-9039-C0CD73FE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654-E926-42F2-B48B-E6847835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702-3D97-4FAA-8263-C11C1401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7C4-C97A-4629-9B8A-43B8BEBF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540-9615-4A14-B232-506CC9D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E84-7370-4E52-A8EA-C74749DC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9BA-59F3-4292-A2D2-B40FFB5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72C-C634-4DC8-A64B-650BBF40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727-7B9B-4C7C-9128-5DB59C08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C79-F47B-408C-8DB7-B66D195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4F3-EA3B-4FD9-AC81-D5A940FF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9182-C64A-484E-A263-CD8834564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914400"/>
          <a:ext cx="8229600" cy="20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59840" y="73080"/>
            <a:ext cx="341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COND-ORDER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760" y="609480"/>
            <a:ext cx="323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CIRCUIT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" y="2971800"/>
            <a:ext cx="277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Node-pair: Use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1447920"/>
            <a:ext cx="2133360" cy="990360"/>
            <a:chOff x="1447920" y="1447920"/>
            <a:chExt cx="2133360" cy="990360"/>
          </a:xfrm>
        </p:grpSpPr>
        <p:sp>
          <p:nvSpPr>
            <p:cNvPr id="50" name=""/>
            <p:cNvSpPr/>
            <p:nvPr/>
          </p:nvSpPr>
          <p:spPr>
            <a:xfrm>
              <a:off x="1447920" y="1447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040" y="15238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133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3047760" y="17524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742840" y="20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3581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276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3352680"/>
                <a:ext cx="1955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3657600"/>
                <a:ext cx="4660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4419720"/>
                <a:ext cx="34671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1560" y="5164200"/>
            <a:ext cx="169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fferenti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5120" y="5181480"/>
                <a:ext cx="220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835160" y="2954160"/>
            <a:ext cx="226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Loop: Use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553080" y="685800"/>
            <a:ext cx="1544760" cy="1816200"/>
            <a:chOff x="6553080" y="685800"/>
            <a:chExt cx="1544760" cy="181620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553080" y="152388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391520" y="6858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848720" y="1676520"/>
                  <a:ext cx="2491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62720" y="327672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00600" y="3632040"/>
                <a:ext cx="4343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5334120"/>
                <a:ext cx="2158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52880" y="4419720"/>
                <a:ext cx="3543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52400" y="620640"/>
            <a:ext cx="761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7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plots the response in Example 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v(t)=2exp(-2t)+2exp(-0.5t); 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20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=2*exp(-2*t)+2*exp(-0.5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m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ec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(Volt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ESPONSE OF OVERDAMPED PARALLEL RLC CIRCUI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3920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39440" cy="4114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8600" y="442800"/>
          <a:ext cx="60372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2800"/>
                    <a:ext cx="60372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14600" y="152280"/>
                <a:ext cx="2527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257800" y="1522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8600" y="2743200"/>
                <a:ext cx="361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8600" y="3429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28600" y="4038480"/>
                <a:ext cx="2298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2280" y="469908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4495680"/>
                <a:ext cx="1803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8600" y="5181480"/>
                <a:ext cx="3416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 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"/>
          <p:cNvGrpSpPr/>
          <p:nvPr/>
        </p:nvGrpSpPr>
        <p:grpSpPr>
          <a:xfrm>
            <a:off x="3505320" y="5334120"/>
            <a:ext cx="519120" cy="380880"/>
            <a:chOff x="3505320" y="5334120"/>
            <a:chExt cx="519120" cy="380880"/>
          </a:xfrm>
        </p:grpSpPr>
        <p:sp>
          <p:nvSpPr>
            <p:cNvPr id="295" name=""/>
            <p:cNvSpPr/>
            <p:nvPr/>
          </p:nvSpPr>
          <p:spPr>
            <a:xfrm>
              <a:off x="3505320" y="5334120"/>
              <a:ext cx="2286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733920" y="53341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63640" y="5830920"/>
                <a:ext cx="2870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28600" y="63244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02160" y="2743200"/>
                <a:ext cx="2260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 COMPUTE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010280" y="2743200"/>
                <a:ext cx="1397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72000" y="3352680"/>
                <a:ext cx="231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64480" y="3352680"/>
                <a:ext cx="1536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828800" y="63244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72000" y="3962520"/>
                <a:ext cx="4152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72000" y="451008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016600" y="4952880"/>
                <a:ext cx="347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762120" y="1447920"/>
            <a:ext cx="4012920" cy="825480"/>
            <a:chOff x="762120" y="1447920"/>
            <a:chExt cx="4012920" cy="825480"/>
          </a:xfrm>
        </p:grpSpPr>
        <p:grpSp>
          <p:nvGrpSpPr>
            <p:cNvPr id="308" name=""/>
            <p:cNvGrpSpPr/>
            <p:nvPr/>
          </p:nvGrpSpPr>
          <p:grpSpPr>
            <a:xfrm>
              <a:off x="762120" y="1447920"/>
              <a:ext cx="4012920" cy="825480"/>
              <a:chOff x="762120" y="1447920"/>
              <a:chExt cx="4012920" cy="825480"/>
            </a:xfrm>
          </p:grpSpPr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76212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−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>
                            <m:r>
                              <m:t xml:space="preserve">+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0" name=""/>
                  <p:cNvSpPr txBox="1"/>
                  <p:nvPr/>
                </p:nvSpPr>
                <p:spPr>
                  <a:xfrm>
                    <a:off x="2666880" y="1447920"/>
                    <a:ext cx="660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449568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209680" y="19051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800600" y="53341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13200" y="6019920"/>
                <a:ext cx="3873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3520" y="1739880"/>
            <a:ext cx="26100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CONTINUITY AT t=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33560" y="3549600"/>
            <a:ext cx="81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000" y="5850000"/>
            <a:ext cx="76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45196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320" y="228600"/>
            <a:ext cx="920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8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i(t)=exp(-3t)(4cos(4t)-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and the function vc(t)=exp(-3t)(-4cos(4t)+2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use a simle algorithm to estimate displa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10*ta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3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=exp(-3*t).*(4*cos(4*t)-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=exp(-3*t).*(-4*cos(4*t)+2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i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t,vc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/Curren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 AND 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(A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280" y="380880"/>
          <a:ext cx="46134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6134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362320" y="7632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91320" y="7632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1125360" y="1027080"/>
            <a:ext cx="2152800" cy="2724120"/>
            <a:chOff x="1125360" y="1027080"/>
            <a:chExt cx="2152800" cy="2724120"/>
          </a:xfrm>
        </p:grpSpPr>
        <p:sp>
          <p:nvSpPr>
            <p:cNvPr id="333" name=""/>
            <p:cNvSpPr/>
            <p:nvPr/>
          </p:nvSpPr>
          <p:spPr>
            <a:xfrm>
              <a:off x="1125360" y="1027080"/>
              <a:ext cx="2152800" cy="2724120"/>
            </a:xfrm>
            <a:custGeom>
              <a:avLst/>
              <a:gdLst/>
              <a:ahLst/>
              <a:rect l="l" t="t" r="r" b="b"/>
              <a:pathLst>
                <a:path w="1356" h="1716">
                  <a:moveTo>
                    <a:pt x="0" y="1629"/>
                  </a:moveTo>
                  <a:cubicBezTo>
                    <a:pt x="53" y="1318"/>
                    <a:pt x="0" y="1646"/>
                    <a:pt x="0" y="787"/>
                  </a:cubicBezTo>
                  <a:cubicBezTo>
                    <a:pt x="0" y="521"/>
                    <a:pt x="16" y="263"/>
                    <a:pt x="16" y="0"/>
                  </a:cubicBezTo>
                  <a:cubicBezTo>
                    <a:pt x="438" y="5"/>
                    <a:pt x="864" y="23"/>
                    <a:pt x="1286" y="23"/>
                  </a:cubicBezTo>
                  <a:cubicBezTo>
                    <a:pt x="1298" y="206"/>
                    <a:pt x="1287" y="447"/>
                    <a:pt x="1348" y="623"/>
                  </a:cubicBezTo>
                  <a:cubicBezTo>
                    <a:pt x="1351" y="654"/>
                    <a:pt x="1356" y="717"/>
                    <a:pt x="1356" y="717"/>
                  </a:cubicBezTo>
                  <a:cubicBezTo>
                    <a:pt x="1200" y="720"/>
                    <a:pt x="1044" y="722"/>
                    <a:pt x="888" y="725"/>
                  </a:cubicBezTo>
                  <a:cubicBezTo>
                    <a:pt x="774" y="727"/>
                    <a:pt x="660" y="728"/>
                    <a:pt x="546" y="732"/>
                  </a:cubicBezTo>
                  <a:cubicBezTo>
                    <a:pt x="525" y="733"/>
                    <a:pt x="483" y="740"/>
                    <a:pt x="483" y="740"/>
                  </a:cubicBezTo>
                  <a:cubicBezTo>
                    <a:pt x="441" y="1067"/>
                    <a:pt x="429" y="1373"/>
                    <a:pt x="429" y="1707"/>
                  </a:cubicBezTo>
                  <a:cubicBezTo>
                    <a:pt x="159" y="1716"/>
                    <a:pt x="294" y="1714"/>
                    <a:pt x="24" y="17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9760" y="10494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03040" y="4114800"/>
                <a:ext cx="2337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"/>
          <p:cNvGrpSpPr/>
          <p:nvPr/>
        </p:nvGrpSpPr>
        <p:grpSpPr>
          <a:xfrm>
            <a:off x="2819520" y="1754280"/>
            <a:ext cx="1638000" cy="1446120"/>
            <a:chOff x="2819520" y="1754280"/>
            <a:chExt cx="1638000" cy="1446120"/>
          </a:xfrm>
        </p:grpSpPr>
        <p:sp>
          <p:nvSpPr>
            <p:cNvPr id="337" name=""/>
            <p:cNvSpPr/>
            <p:nvPr/>
          </p:nvSpPr>
          <p:spPr>
            <a:xfrm>
              <a:off x="3728880" y="175428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9520" y="2514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8480" y="251460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98800" y="1887480"/>
              <a:ext cx="5587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16120" y="411480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4788000"/>
                <a:ext cx="4838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28600" y="5486400"/>
                <a:ext cx="4165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0" y="6172200"/>
                <a:ext cx="254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90920" y="617220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572000" y="91440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0" y="457200"/>
                <a:ext cx="3098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010280" y="838080"/>
                <a:ext cx="1879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622760" y="160020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838760" y="2859120"/>
                <a:ext cx="2654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505640" y="3062160"/>
                <a:ext cx="1181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238720" y="39258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238720" y="430704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848200" y="5221440"/>
                <a:ext cx="2171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54960" y="1981080"/>
            <a:ext cx="3775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. 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482560" y="152280"/>
            <a:ext cx="4242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160" y="533520"/>
            <a:ext cx="761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9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v(t)=exp(-3t)(1+6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ceil(10*ta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t=exp(-3*t).*(1+6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8991720" cy="40384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320" y="457200"/>
            <a:ext cx="4473360" cy="4778280"/>
            <a:chOff x="22320" y="457200"/>
            <a:chExt cx="4473360" cy="4778280"/>
          </a:xfrm>
        </p:grpSpPr>
        <p:graphicFrame>
          <p:nvGraphicFramePr>
            <p:cNvPr id="367" name=""/>
            <p:cNvGraphicFramePr/>
            <p:nvPr/>
          </p:nvGraphicFramePr>
          <p:xfrm>
            <a:off x="22320" y="457200"/>
            <a:ext cx="4473360" cy="477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20" y="457200"/>
                      <a:ext cx="4473360" cy="47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 rot="10800000">
                  <a:off x="1012320" y="1959120"/>
                  <a:ext cx="2732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 rot="10800000">
                  <a:off x="2644920" y="11970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90920" y="763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26080" y="5316480"/>
            <a:ext cx="420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switch opens the circuit i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88840" y="5729400"/>
                <a:ext cx="3302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43400" y="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114800" y="609480"/>
                <a:ext cx="2502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629400" y="774720"/>
                <a:ext cx="2451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460400" y="1374840"/>
            <a:ext cx="43459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use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572000" y="1981080"/>
            <a:ext cx="3138480" cy="3353040"/>
            <a:chOff x="4572000" y="1981080"/>
            <a:chExt cx="3138480" cy="3353040"/>
          </a:xfrm>
        </p:grpSpPr>
        <p:graphicFrame>
          <p:nvGraphicFramePr>
            <p:cNvPr id="379" name=""/>
            <p:cNvGraphicFramePr/>
            <p:nvPr/>
          </p:nvGraphicFramePr>
          <p:xfrm>
            <a:off x="4572000" y="1981080"/>
            <a:ext cx="313848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981080"/>
                      <a:ext cx="313848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 rot="10800000">
                  <a:off x="5334120" y="29718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 rot="10800000">
                  <a:off x="6477120" y="2437920"/>
                  <a:ext cx="27288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029200" y="3657600"/>
                <a:ext cx="914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4" name=""/>
          <p:cNvGrpSpPr/>
          <p:nvPr/>
        </p:nvGrpSpPr>
        <p:grpSpPr>
          <a:xfrm>
            <a:off x="7238880" y="2209680"/>
            <a:ext cx="1168560" cy="685800"/>
            <a:chOff x="7238880" y="2209680"/>
            <a:chExt cx="1168560" cy="68580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7391520" y="2362320"/>
                  <a:ext cx="1015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7238880" y="22096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391520" y="35053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391520" y="3860640"/>
                <a:ext cx="102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572000" y="5715000"/>
                <a:ext cx="1384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400800" y="5867280"/>
                <a:ext cx="2311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228600" y="1676520"/>
            <a:ext cx="3581280" cy="2349360"/>
            <a:chOff x="228600" y="1676520"/>
            <a:chExt cx="3581280" cy="234936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1066680" y="32004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28600" y="167652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544920" y="2470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22120" y="4478400"/>
            <a:ext cx="15782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29200" y="4782960"/>
            <a:ext cx="2857680" cy="855720"/>
            <a:chOff x="5029200" y="4782960"/>
            <a:chExt cx="2857680" cy="855720"/>
          </a:xfrm>
        </p:grpSpPr>
        <p:grpSp>
          <p:nvGrpSpPr>
            <p:cNvPr id="400" name=""/>
            <p:cNvGrpSpPr/>
            <p:nvPr/>
          </p:nvGrpSpPr>
          <p:grpSpPr>
            <a:xfrm>
              <a:off x="5029200" y="4876920"/>
              <a:ext cx="2857680" cy="761760"/>
              <a:chOff x="5029200" y="4876920"/>
              <a:chExt cx="2857680" cy="761760"/>
            </a:xfrm>
          </p:grpSpPr>
          <mc:AlternateContent>
            <mc:Choice xmlns:a14="http://schemas.microsoft.com/office/drawing/2010/main" Requires="a14">
              <p:sp>
                <p:nvSpPr>
                  <p:cNvPr id="401" name=""/>
                  <p:cNvSpPr txBox="1"/>
                  <p:nvPr/>
                </p:nvSpPr>
                <p:spPr>
                  <a:xfrm>
                    <a:off x="6553080" y="5398920"/>
                    <a:ext cx="133380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5029200" y="5373720"/>
                    <a:ext cx="1041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3" name=""/>
              <p:cNvSpPr/>
              <p:nvPr/>
            </p:nvSpPr>
            <p:spPr>
              <a:xfrm flipV="1">
                <a:off x="6400800" y="4876920"/>
                <a:ext cx="0" cy="304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7120" y="5181480"/>
                <a:ext cx="457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401160" y="4782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360" y="5011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76320" y="380880"/>
            <a:ext cx="4419360" cy="3187800"/>
            <a:chOff x="76320" y="380880"/>
            <a:chExt cx="4419360" cy="3187800"/>
          </a:xfrm>
        </p:grpSpPr>
        <p:graphicFrame>
          <p:nvGraphicFramePr>
            <p:cNvPr id="408" name=""/>
            <p:cNvGraphicFramePr/>
            <p:nvPr/>
          </p:nvGraphicFramePr>
          <p:xfrm>
            <a:off x="76320" y="380880"/>
            <a:ext cx="4419360" cy="31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4419360" cy="31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1600200" y="274320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590920" y="9036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11760" y="3639960"/>
            <a:ext cx="3324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&gt;0 the circuit  is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5800" y="2286000"/>
            <a:ext cx="1600200" cy="1219320"/>
            <a:chOff x="685800" y="2286000"/>
            <a:chExt cx="1600200" cy="1219320"/>
          </a:xfrm>
        </p:grpSpPr>
        <p:grpSp>
          <p:nvGrpSpPr>
            <p:cNvPr id="415" name=""/>
            <p:cNvGrpSpPr/>
            <p:nvPr/>
          </p:nvGrpSpPr>
          <p:grpSpPr>
            <a:xfrm>
              <a:off x="685800" y="2286000"/>
              <a:ext cx="1219320" cy="1219320"/>
              <a:chOff x="685800" y="2286000"/>
              <a:chExt cx="1219320" cy="1219320"/>
            </a:xfrm>
          </p:grpSpPr>
          <mc:AlternateContent>
            <mc:Choice xmlns:a14="http://schemas.microsoft.com/office/drawing/2010/main" Requires="a14">
              <p:sp>
                <p:nvSpPr>
                  <p:cNvPr id="416" name=""/>
                  <p:cNvSpPr txBox="1"/>
                  <p:nvPr/>
                </p:nvSpPr>
                <p:spPr>
                  <a:xfrm>
                    <a:off x="685800" y="3124080"/>
                    <a:ext cx="1155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7" name=""/>
              <p:cNvSpPr/>
              <p:nvPr/>
            </p:nvSpPr>
            <p:spPr>
              <a:xfrm>
                <a:off x="1905120" y="2286000"/>
                <a:ext cx="0" cy="121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1917720" y="23623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"/>
          <p:cNvGrpSpPr/>
          <p:nvPr/>
        </p:nvGrpSpPr>
        <p:grpSpPr>
          <a:xfrm>
            <a:off x="809640" y="1001880"/>
            <a:ext cx="811080" cy="1842840"/>
            <a:chOff x="809640" y="1001880"/>
            <a:chExt cx="811080" cy="1842840"/>
          </a:xfrm>
        </p:grpSpPr>
        <p:sp>
          <p:nvSpPr>
            <p:cNvPr id="420" name=""/>
            <p:cNvSpPr/>
            <p:nvPr/>
          </p:nvSpPr>
          <p:spPr>
            <a:xfrm>
              <a:off x="809640" y="1001880"/>
              <a:ext cx="811080" cy="1842840"/>
            </a:xfrm>
            <a:custGeom>
              <a:avLst/>
              <a:gdLst/>
              <a:ahLst/>
              <a:rect l="l" t="t" r="r" b="b"/>
              <a:pathLst>
                <a:path w="511" h="1161">
                  <a:moveTo>
                    <a:pt x="4" y="1068"/>
                  </a:moveTo>
                  <a:cubicBezTo>
                    <a:pt x="0" y="701"/>
                    <a:pt x="4" y="363"/>
                    <a:pt x="4" y="0"/>
                  </a:cubicBezTo>
                  <a:cubicBezTo>
                    <a:pt x="91" y="10"/>
                    <a:pt x="254" y="39"/>
                    <a:pt x="363" y="47"/>
                  </a:cubicBezTo>
                  <a:cubicBezTo>
                    <a:pt x="412" y="51"/>
                    <a:pt x="511" y="55"/>
                    <a:pt x="511" y="55"/>
                  </a:cubicBezTo>
                  <a:cubicBezTo>
                    <a:pt x="511" y="369"/>
                    <a:pt x="511" y="684"/>
                    <a:pt x="511" y="998"/>
                  </a:cubicBezTo>
                  <a:cubicBezTo>
                    <a:pt x="420" y="1008"/>
                    <a:pt x="319" y="994"/>
                    <a:pt x="238" y="1037"/>
                  </a:cubicBezTo>
                  <a:cubicBezTo>
                    <a:pt x="212" y="1051"/>
                    <a:pt x="191" y="1072"/>
                    <a:pt x="168" y="1091"/>
                  </a:cubicBezTo>
                  <a:cubicBezTo>
                    <a:pt x="160" y="1098"/>
                    <a:pt x="154" y="1109"/>
                    <a:pt x="145" y="1115"/>
                  </a:cubicBezTo>
                  <a:cubicBezTo>
                    <a:pt x="123" y="1130"/>
                    <a:pt x="98" y="1142"/>
                    <a:pt x="74" y="1154"/>
                  </a:cubicBezTo>
                  <a:cubicBezTo>
                    <a:pt x="67" y="1158"/>
                    <a:pt x="51" y="1161"/>
                    <a:pt x="51" y="11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8520" y="150660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8600" y="4038480"/>
                <a:ext cx="3733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8600" y="47242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8600" y="534816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: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600" y="6019920"/>
                <a:ext cx="246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4742280" y="0"/>
            <a:ext cx="41202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we us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029200" y="609480"/>
          <a:ext cx="3284640" cy="236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09480"/>
                    <a:ext cx="328464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"/>
          <p:cNvGrpSpPr/>
          <p:nvPr/>
        </p:nvGrpSpPr>
        <p:grpSpPr>
          <a:xfrm>
            <a:off x="4800600" y="1295280"/>
            <a:ext cx="1143000" cy="824040"/>
            <a:chOff x="4800600" y="1295280"/>
            <a:chExt cx="1143000" cy="824040"/>
          </a:xfrm>
        </p:grpSpPr>
        <p:sp>
          <p:nvSpPr>
            <p:cNvPr id="430" name=""/>
            <p:cNvSpPr/>
            <p:nvPr/>
          </p:nvSpPr>
          <p:spPr>
            <a:xfrm flipV="1">
              <a:off x="5486400" y="12952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4800600" y="182880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95880" y="1066680"/>
                <a:ext cx="889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4650120" y="3067200"/>
            <a:ext cx="285984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572000" y="350532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3403440"/>
                <a:ext cx="2082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597560" y="4051440"/>
                <a:ext cx="2641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620120" y="4191120"/>
                <a:ext cx="74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334120" y="5105520"/>
                <a:ext cx="2616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514600" y="14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4" name=""/>
          <p:cNvGrpSpPr/>
          <p:nvPr/>
        </p:nvGrpSpPr>
        <p:grpSpPr>
          <a:xfrm>
            <a:off x="4680" y="328680"/>
            <a:ext cx="4567320" cy="2490840"/>
            <a:chOff x="4680" y="328680"/>
            <a:chExt cx="4567320" cy="2490840"/>
          </a:xfrm>
        </p:grpSpPr>
        <p:graphicFrame>
          <p:nvGraphicFramePr>
            <p:cNvPr id="445" name=""/>
            <p:cNvGraphicFramePr/>
            <p:nvPr/>
          </p:nvGraphicFramePr>
          <p:xfrm>
            <a:off x="4680" y="328680"/>
            <a:ext cx="4567320" cy="24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0" y="328680"/>
                      <a:ext cx="456732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1066680" y="64764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4114800" y="1090440"/>
                  <a:ext cx="2142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5562720" y="1440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2511360" y="1219320"/>
            <a:ext cx="990720" cy="1608120"/>
            <a:chOff x="2511360" y="1219320"/>
            <a:chExt cx="990720" cy="1608120"/>
          </a:xfrm>
        </p:grpSpPr>
        <p:sp>
          <p:nvSpPr>
            <p:cNvPr id="451" name=""/>
            <p:cNvSpPr/>
            <p:nvPr/>
          </p:nvSpPr>
          <p:spPr>
            <a:xfrm>
              <a:off x="2511360" y="1219320"/>
              <a:ext cx="990720" cy="1608120"/>
            </a:xfrm>
            <a:custGeom>
              <a:avLst/>
              <a:gdLst/>
              <a:ahLst/>
              <a:rect l="l" t="t" r="r" b="b"/>
              <a:pathLst>
                <a:path w="624" h="1013">
                  <a:moveTo>
                    <a:pt x="0" y="982"/>
                  </a:moveTo>
                  <a:cubicBezTo>
                    <a:pt x="7" y="904"/>
                    <a:pt x="10" y="825"/>
                    <a:pt x="23" y="748"/>
                  </a:cubicBezTo>
                  <a:cubicBezTo>
                    <a:pt x="29" y="671"/>
                    <a:pt x="28" y="589"/>
                    <a:pt x="47" y="514"/>
                  </a:cubicBezTo>
                  <a:cubicBezTo>
                    <a:pt x="58" y="416"/>
                    <a:pt x="61" y="314"/>
                    <a:pt x="86" y="218"/>
                  </a:cubicBezTo>
                  <a:cubicBezTo>
                    <a:pt x="93" y="15"/>
                    <a:pt x="93" y="88"/>
                    <a:pt x="93" y="0"/>
                  </a:cubicBezTo>
                  <a:cubicBezTo>
                    <a:pt x="613" y="15"/>
                    <a:pt x="436" y="15"/>
                    <a:pt x="623" y="15"/>
                  </a:cubicBezTo>
                  <a:cubicBezTo>
                    <a:pt x="619" y="152"/>
                    <a:pt x="624" y="300"/>
                    <a:pt x="600" y="436"/>
                  </a:cubicBezTo>
                  <a:cubicBezTo>
                    <a:pt x="593" y="586"/>
                    <a:pt x="577" y="757"/>
                    <a:pt x="577" y="912"/>
                  </a:cubicBezTo>
                  <a:cubicBezTo>
                    <a:pt x="509" y="922"/>
                    <a:pt x="440" y="924"/>
                    <a:pt x="374" y="943"/>
                  </a:cubicBezTo>
                  <a:cubicBezTo>
                    <a:pt x="294" y="966"/>
                    <a:pt x="200" y="1013"/>
                    <a:pt x="117" y="101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05920" y="132552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6320" y="3048120"/>
                <a:ext cx="477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52280" y="3733920"/>
                <a:ext cx="252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52280" y="4419720"/>
                <a:ext cx="2311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08000" y="5181480"/>
                <a:ext cx="2641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81480" y="297180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686640" y="30114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140440" y="3505320"/>
            <a:ext cx="177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950080" y="388620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5562720" y="4191120"/>
                <a:ext cx="2958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2743200" y="3886200"/>
            <a:ext cx="2514600" cy="2514600"/>
            <a:chOff x="2743200" y="3886200"/>
            <a:chExt cx="2514600" cy="2514600"/>
          </a:xfrm>
        </p:grpSpPr>
        <p:graphicFrame>
          <p:nvGraphicFramePr>
            <p:cNvPr id="463" name=""/>
            <p:cNvGraphicFramePr/>
            <p:nvPr/>
          </p:nvGraphicFramePr>
          <p:xfrm>
            <a:off x="2743200" y="3886200"/>
            <a:ext cx="251460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3886200"/>
                      <a:ext cx="251460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429000" y="4419720"/>
                  <a:ext cx="1001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429000" y="4724280"/>
                  <a:ext cx="10288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851360" y="47386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867280" y="5029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0" y="1592280"/>
                <a:ext cx="4572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0" name=""/>
          <p:cNvGrpSpPr/>
          <p:nvPr/>
        </p:nvGrpSpPr>
        <p:grpSpPr>
          <a:xfrm>
            <a:off x="4724280" y="380880"/>
            <a:ext cx="3581640" cy="2455920"/>
            <a:chOff x="4724280" y="380880"/>
            <a:chExt cx="3581640" cy="2455920"/>
          </a:xfrm>
        </p:grpSpPr>
        <p:grpSp>
          <p:nvGrpSpPr>
            <p:cNvPr id="471" name=""/>
            <p:cNvGrpSpPr/>
            <p:nvPr/>
          </p:nvGrpSpPr>
          <p:grpSpPr>
            <a:xfrm>
              <a:off x="4952880" y="380880"/>
              <a:ext cx="3353040" cy="2455920"/>
              <a:chOff x="4952880" y="380880"/>
              <a:chExt cx="3353040" cy="245592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52880" y="650880"/>
                <a:ext cx="3353040" cy="2185920"/>
                <a:chOff x="4952880" y="650880"/>
                <a:chExt cx="3353040" cy="2185920"/>
              </a:xfrm>
            </p:grpSpPr>
            <p:graphicFrame>
              <p:nvGraphicFramePr>
                <p:cNvPr id="473" name=""/>
                <p:cNvGraphicFramePr/>
                <p:nvPr/>
              </p:nvGraphicFramePr>
              <p:xfrm>
                <a:off x="4952880" y="650880"/>
                <a:ext cx="3353040" cy="2185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7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952880" y="650880"/>
                          <a:ext cx="3353040" cy="21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75" name=""/>
                    <p:cNvSpPr txBox="1"/>
                    <p:nvPr/>
                  </p:nvSpPr>
                  <p:spPr>
                    <a:xfrm>
                      <a:off x="5732640" y="930240"/>
                      <a:ext cx="15696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76" name=""/>
                    <p:cNvSpPr txBox="1"/>
                    <p:nvPr/>
                  </p:nvSpPr>
                  <p:spPr>
                    <a:xfrm>
                      <a:off x="7970760" y="1319040"/>
                      <a:ext cx="15732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77" name=""/>
              <p:cNvSpPr/>
              <p:nvPr/>
            </p:nvSpPr>
            <p:spPr>
              <a:xfrm>
                <a:off x="5039280" y="380880"/>
                <a:ext cx="18129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teady state t&l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781680" y="990720"/>
              <a:ext cx="762120" cy="366480"/>
              <a:chOff x="6781680" y="990720"/>
              <a:chExt cx="762120" cy="366480"/>
            </a:xfrm>
          </p:grpSpPr>
          <p:sp>
            <p:nvSpPr>
              <p:cNvPr id="479" name=""/>
              <p:cNvSpPr/>
              <p:nvPr/>
            </p:nvSpPr>
            <p:spPr>
              <a:xfrm>
                <a:off x="6781680" y="990720"/>
                <a:ext cx="762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6934320" y="1066680"/>
                    <a:ext cx="507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6781680" y="1371600"/>
                  <a:ext cx="559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724280" y="175248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886880" y="4738680"/>
                <a:ext cx="125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0" y="571500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943600" y="5943600"/>
                <a:ext cx="1905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135640" y="5643000"/>
            <a:ext cx="1003680" cy="1214640"/>
            <a:chOff x="8135640" y="5643000"/>
            <a:chExt cx="1003680" cy="1214640"/>
          </a:xfrm>
        </p:grpSpPr>
        <p:pic>
          <p:nvPicPr>
            <p:cNvPr id="488" name="" descr=""/>
            <p:cNvPicPr/>
            <p:nvPr/>
          </p:nvPicPr>
          <p:blipFill>
            <a:blip r:embed="rId7"/>
            <a:stretch/>
          </p:blipFill>
          <p:spPr>
            <a:xfrm>
              <a:off x="8605800" y="6343560"/>
              <a:ext cx="5140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8135640" y="5643000"/>
              <a:ext cx="100368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320" y="533520"/>
          <a:ext cx="89913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899136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200" y="5868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457200"/>
                <a:ext cx="712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 THE  DIFFERENTIAL EQUATION  FOR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RESPECTIVE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920" y="2362320"/>
                <a:ext cx="1689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" name=""/>
          <p:cNvGrpSpPr/>
          <p:nvPr/>
        </p:nvGrpSpPr>
        <p:grpSpPr>
          <a:xfrm>
            <a:off x="1600200" y="762120"/>
            <a:ext cx="3352680" cy="1523880"/>
            <a:chOff x="1600200" y="762120"/>
            <a:chExt cx="3352680" cy="1523880"/>
          </a:xfrm>
        </p:grpSpPr>
        <p:sp>
          <p:nvSpPr>
            <p:cNvPr id="77" name=""/>
            <p:cNvSpPr/>
            <p:nvPr/>
          </p:nvSpPr>
          <p:spPr>
            <a:xfrm>
              <a:off x="1600200" y="10666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90560" y="114300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981080" y="762120"/>
              <a:ext cx="2971800" cy="1523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7760" y="3124080"/>
            <a:ext cx="2852280" cy="1084320"/>
            <a:chOff x="617760" y="3124080"/>
            <a:chExt cx="2852280" cy="1084320"/>
          </a:xfrm>
        </p:grpSpPr>
        <p:sp>
          <p:nvSpPr>
            <p:cNvPr id="81" name=""/>
            <p:cNvSpPr/>
            <p:nvPr/>
          </p:nvSpPr>
          <p:spPr>
            <a:xfrm>
              <a:off x="617760" y="3124080"/>
              <a:ext cx="28522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930240" y="3522600"/>
                  <a:ext cx="2209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v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2362320"/>
                <a:ext cx="149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4419720"/>
                <a:ext cx="1994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6553080" y="762120"/>
            <a:ext cx="2590920" cy="1600200"/>
            <a:chOff x="6553080" y="762120"/>
            <a:chExt cx="2590920" cy="1600200"/>
          </a:xfrm>
        </p:grpSpPr>
        <p:sp>
          <p:nvSpPr>
            <p:cNvPr id="86" name=""/>
            <p:cNvSpPr/>
            <p:nvPr/>
          </p:nvSpPr>
          <p:spPr>
            <a:xfrm>
              <a:off x="6934320" y="762120"/>
              <a:ext cx="220968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553080" y="11430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75040" y="2449440"/>
                <a:ext cx="174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4859640" y="3182760"/>
            <a:ext cx="2515320" cy="1008360"/>
            <a:chOff x="4859640" y="3182760"/>
            <a:chExt cx="2515320" cy="1008360"/>
          </a:xfrm>
        </p:grpSpPr>
        <p:sp>
          <p:nvSpPr>
            <p:cNvPr id="90" name=""/>
            <p:cNvSpPr/>
            <p:nvPr/>
          </p:nvSpPr>
          <p:spPr>
            <a:xfrm>
              <a:off x="4859640" y="3182760"/>
              <a:ext cx="251532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81480" y="3581280"/>
                  <a:ext cx="2159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i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R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32440" y="2514600"/>
                <a:ext cx="154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89440" y="43434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41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152280"/>
            <a:ext cx="2800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1163520"/>
                <a:ext cx="39243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 STUDY THE SOLUTIONS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2494080"/>
                <a:ext cx="3235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NOWN: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particular solutio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complementary 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3581280"/>
                <a:ext cx="3645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COMPLEMENTARY 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IFES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515840" y="1919160"/>
            <a:ext cx="452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RCING FUNCTION IS A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19720" y="2290680"/>
                <a:ext cx="4267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is a particular solu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19720" y="2935440"/>
                <a:ext cx="461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OF: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46440" y="3733920"/>
                <a:ext cx="4305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 ANY   FORCING  FUNCTIO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40320" y="480060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4932360" y="76320"/>
            <a:ext cx="3759120" cy="2057400"/>
            <a:chOff x="4932360" y="76320"/>
            <a:chExt cx="3759120" cy="2057400"/>
          </a:xfrm>
        </p:grpSpPr>
        <p:sp>
          <p:nvSpPr>
            <p:cNvPr id="110" name=""/>
            <p:cNvSpPr/>
            <p:nvPr/>
          </p:nvSpPr>
          <p:spPr>
            <a:xfrm>
              <a:off x="5022720" y="7632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932360" y="495360"/>
                  <a:ext cx="37591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ETERMINE  THE  CHARACTERISTI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TION,  DAMPING  RATIO  AND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ATURAL  FREQUENCY</m:t>
                          </m:r>
                        </m:e>
                        <m:e>
                          <m:r>
                            <m:t xml:space="preserve">4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4916160" y="2209680"/>
            <a:ext cx="39387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313240" y="2895480"/>
                <a:ext cx="261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7066080" y="4800600"/>
            <a:ext cx="304560" cy="990360"/>
            <a:chOff x="7066080" y="4800600"/>
            <a:chExt cx="304560" cy="99036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7066080" y="5410080"/>
                  <a:ext cx="29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7066080" y="4800600"/>
              <a:ext cx="304560" cy="99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51680" y="4876920"/>
            <a:ext cx="507960" cy="900000"/>
            <a:chOff x="6151680" y="4876920"/>
            <a:chExt cx="507960" cy="9000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151680" y="54864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6303960" y="4876920"/>
              <a:ext cx="152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37280" y="3657600"/>
                <a:ext cx="3073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062680" y="2844720"/>
            <a:ext cx="977760" cy="1487520"/>
          </a:xfrm>
          <a:custGeom>
            <a:avLst/>
            <a:gdLst/>
            <a:ahLst/>
            <a:rect l="l" t="t" r="r" b="b"/>
            <a:pathLst>
              <a:path w="616" h="937">
                <a:moveTo>
                  <a:pt x="257" y="469"/>
                </a:moveTo>
                <a:cubicBezTo>
                  <a:pt x="314" y="472"/>
                  <a:pt x="372" y="473"/>
                  <a:pt x="429" y="477"/>
                </a:cubicBezTo>
                <a:cubicBezTo>
                  <a:pt x="455" y="479"/>
                  <a:pt x="482" y="492"/>
                  <a:pt x="507" y="485"/>
                </a:cubicBezTo>
                <a:cubicBezTo>
                  <a:pt x="534" y="478"/>
                  <a:pt x="554" y="454"/>
                  <a:pt x="577" y="438"/>
                </a:cubicBezTo>
                <a:cubicBezTo>
                  <a:pt x="594" y="384"/>
                  <a:pt x="607" y="329"/>
                  <a:pt x="616" y="274"/>
                </a:cubicBezTo>
                <a:cubicBezTo>
                  <a:pt x="600" y="235"/>
                  <a:pt x="588" y="195"/>
                  <a:pt x="569" y="158"/>
                </a:cubicBezTo>
                <a:cubicBezTo>
                  <a:pt x="559" y="139"/>
                  <a:pt x="538" y="130"/>
                  <a:pt x="522" y="119"/>
                </a:cubicBezTo>
                <a:cubicBezTo>
                  <a:pt x="444" y="67"/>
                  <a:pt x="366" y="23"/>
                  <a:pt x="273" y="2"/>
                </a:cubicBezTo>
                <a:cubicBezTo>
                  <a:pt x="218" y="4"/>
                  <a:pt x="163" y="0"/>
                  <a:pt x="109" y="9"/>
                </a:cubicBezTo>
                <a:cubicBezTo>
                  <a:pt x="81" y="13"/>
                  <a:pt x="48" y="64"/>
                  <a:pt x="39" y="87"/>
                </a:cubicBezTo>
                <a:cubicBezTo>
                  <a:pt x="33" y="102"/>
                  <a:pt x="24" y="134"/>
                  <a:pt x="24" y="134"/>
                </a:cubicBezTo>
                <a:cubicBezTo>
                  <a:pt x="26" y="173"/>
                  <a:pt x="25" y="212"/>
                  <a:pt x="31" y="251"/>
                </a:cubicBezTo>
                <a:cubicBezTo>
                  <a:pt x="39" y="305"/>
                  <a:pt x="106" y="355"/>
                  <a:pt x="148" y="384"/>
                </a:cubicBezTo>
                <a:cubicBezTo>
                  <a:pt x="151" y="393"/>
                  <a:pt x="188" y="473"/>
                  <a:pt x="172" y="485"/>
                </a:cubicBezTo>
                <a:cubicBezTo>
                  <a:pt x="159" y="495"/>
                  <a:pt x="141" y="495"/>
                  <a:pt x="125" y="500"/>
                </a:cubicBezTo>
                <a:cubicBezTo>
                  <a:pt x="75" y="576"/>
                  <a:pt x="53" y="655"/>
                  <a:pt x="31" y="742"/>
                </a:cubicBezTo>
                <a:cubicBezTo>
                  <a:pt x="39" y="891"/>
                  <a:pt x="0" y="907"/>
                  <a:pt x="117" y="937"/>
                </a:cubicBezTo>
                <a:cubicBezTo>
                  <a:pt x="223" y="919"/>
                  <a:pt x="233" y="928"/>
                  <a:pt x="265" y="836"/>
                </a:cubicBezTo>
                <a:cubicBezTo>
                  <a:pt x="271" y="792"/>
                  <a:pt x="299" y="694"/>
                  <a:pt x="242" y="672"/>
                </a:cubicBezTo>
                <a:cubicBezTo>
                  <a:pt x="225" y="665"/>
                  <a:pt x="205" y="667"/>
                  <a:pt x="187" y="664"/>
                </a:cubicBezTo>
                <a:cubicBezTo>
                  <a:pt x="171" y="669"/>
                  <a:pt x="155" y="673"/>
                  <a:pt x="140" y="680"/>
                </a:cubicBezTo>
                <a:cubicBezTo>
                  <a:pt x="132" y="684"/>
                  <a:pt x="125" y="691"/>
                  <a:pt x="117" y="695"/>
                </a:cubicBezTo>
                <a:cubicBezTo>
                  <a:pt x="102" y="702"/>
                  <a:pt x="70" y="711"/>
                  <a:pt x="70" y="71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18160" y="2895480"/>
            <a:ext cx="1294920" cy="1447560"/>
            <a:chOff x="5618160" y="2895480"/>
            <a:chExt cx="1294920" cy="1447560"/>
          </a:xfrm>
        </p:grpSpPr>
        <p:sp>
          <p:nvSpPr>
            <p:cNvPr id="123" name=""/>
            <p:cNvSpPr/>
            <p:nvPr/>
          </p:nvSpPr>
          <p:spPr>
            <a:xfrm>
              <a:off x="6151320" y="2895480"/>
              <a:ext cx="76176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8160" y="4038480"/>
              <a:ext cx="304560" cy="3045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75360" y="2971800"/>
            <a:ext cx="1523520" cy="1371600"/>
            <a:chOff x="6075360" y="2971800"/>
            <a:chExt cx="1523520" cy="1371600"/>
          </a:xfrm>
        </p:grpSpPr>
        <p:sp>
          <p:nvSpPr>
            <p:cNvPr id="126" name=""/>
            <p:cNvSpPr/>
            <p:nvPr/>
          </p:nvSpPr>
          <p:spPr>
            <a:xfrm>
              <a:off x="7065720" y="2971800"/>
              <a:ext cx="53316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75360" y="3962520"/>
              <a:ext cx="22824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911120" y="4402080"/>
            <a:ext cx="420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, 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446960" y="54864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75360" y="5791320"/>
                <a:ext cx="66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⇓</m:t>
                        </m:r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1800" y="38160"/>
            <a:ext cx="3396240" cy="914400"/>
            <a:chOff x="361800" y="38160"/>
            <a:chExt cx="3396240" cy="914400"/>
          </a:xfrm>
        </p:grpSpPr>
        <p:sp>
          <p:nvSpPr>
            <p:cNvPr id="135" name=""/>
            <p:cNvSpPr/>
            <p:nvPr/>
          </p:nvSpPr>
          <p:spPr>
            <a:xfrm>
              <a:off x="361800" y="38160"/>
              <a:ext cx="3396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HOMOGENEOUS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86160" y="343080"/>
                  <a:ext cx="2768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028880"/>
                <a:ext cx="31240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3581280"/>
                <a:ext cx="2121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04920" y="2019240"/>
                <a:ext cx="3848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damp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natural   frequency</m:t>
                        </m:r>
                      </m:e>
                      <m:e>
                        <m:r>
                          <m:t xml:space="preserve">ς</m:t>
                        </m:r>
                        <m:r>
                          <m:rPr>
                            <m:lit/>
                            <m:nor/>
                          </m:rPr>
                          <m:t xml:space="preserve">     damping  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75760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18680" y="76320"/>
            <a:ext cx="476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THE 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360" y="45720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360" y="1487520"/>
                <a:ext cx="2921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is  a  solution  iff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84320" y="2286000"/>
            <a:ext cx="369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is solu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360" y="2971800"/>
            <a:ext cx="5042160" cy="1219320"/>
            <a:chOff x="63360" y="2971800"/>
            <a:chExt cx="5042160" cy="1219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3360" y="2971800"/>
                  <a:ext cx="35816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OF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3360" y="3581280"/>
                  <a:ext cx="5042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3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94120" y="406440"/>
                <a:ext cx="3936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1:  </m:t>
                    </m:r>
                    <m:r>
                      <m:t xml:space="preserve">ς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distinct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6858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00600" y="1066680"/>
                <a:ext cx="42800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 2: </m:t>
                    </m:r>
                    <m:r>
                      <m:t xml:space="preserve">ς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mplex  conjugate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724280" y="1676520"/>
                <a:ext cx="2121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57800" y="2935440"/>
                <a:ext cx="317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81480" y="329076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NT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15000" y="35956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∓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4956120"/>
                <a:ext cx="3860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equal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477120" y="5221440"/>
                <a:ext cx="85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72200" y="5526000"/>
                <a:ext cx="2057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800600" y="5867280"/>
                <a:ext cx="4025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INT: 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 solution  iff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19920" y="13716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52880" y="23623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mped   oscillation 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934320" y="1828800"/>
                <a:ext cx="2006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real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54760" y="4254480"/>
                <a:ext cx="3898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/>
                              </m:sSubSup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±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05480" y="397656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320" y="4952880"/>
            <a:ext cx="3062160" cy="1539000"/>
            <a:chOff x="76320" y="4952880"/>
            <a:chExt cx="3062160" cy="153900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76320" y="4952880"/>
                  <a:ext cx="262872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rad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717480" y="6154560"/>
              <a:ext cx="242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odes of th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54760" y="2666880"/>
                <a:ext cx="1955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amping facto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172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28880" y="628560"/>
                <a:ext cx="261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9480" y="1436760"/>
                <a:ext cx="3073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62080" y="2743200"/>
                <a:ext cx="267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3520" y="224964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22636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3733920"/>
                <a:ext cx="4165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is is a critically dampe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95280" y="4114800"/>
                <a:ext cx="1917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234960" y="58680"/>
            <a:ext cx="530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GENERAL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4120" y="609480"/>
                <a:ext cx="2832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1600200"/>
                <a:ext cx="2616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664160" y="1254240"/>
            <a:ext cx="4345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 by 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876920" y="24019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673680" y="240192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05520" y="3657600"/>
                <a:ext cx="3124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derdamped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21240" y="407664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11640" y="474984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43360" y="28954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54520" y="3259080"/>
            <a:ext cx="264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real and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30120" y="3259080"/>
            <a:ext cx="3119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complex conju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91600" y="2779560"/>
            <a:ext cx="592200" cy="1101960"/>
            <a:chOff x="8391600" y="2779560"/>
            <a:chExt cx="592200" cy="11019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8534520" y="3505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8391600" y="2779560"/>
              <a:ext cx="592200" cy="1101960"/>
            </a:xfrm>
            <a:custGeom>
              <a:avLst/>
              <a:gdLst/>
              <a:ahLst/>
              <a:rect l="l" t="t" r="r" b="b"/>
              <a:pathLst>
                <a:path w="373" h="694">
                  <a:moveTo>
                    <a:pt x="286" y="65"/>
                  </a:moveTo>
                  <a:cubicBezTo>
                    <a:pt x="232" y="0"/>
                    <a:pt x="241" y="0"/>
                    <a:pt x="153" y="10"/>
                  </a:cubicBezTo>
                  <a:cubicBezTo>
                    <a:pt x="122" y="42"/>
                    <a:pt x="101" y="76"/>
                    <a:pt x="75" y="112"/>
                  </a:cubicBezTo>
                  <a:cubicBezTo>
                    <a:pt x="62" y="130"/>
                    <a:pt x="36" y="166"/>
                    <a:pt x="36" y="166"/>
                  </a:cubicBezTo>
                  <a:cubicBezTo>
                    <a:pt x="16" y="228"/>
                    <a:pt x="24" y="197"/>
                    <a:pt x="13" y="260"/>
                  </a:cubicBezTo>
                  <a:cubicBezTo>
                    <a:pt x="2" y="401"/>
                    <a:pt x="0" y="368"/>
                    <a:pt x="13" y="548"/>
                  </a:cubicBezTo>
                  <a:cubicBezTo>
                    <a:pt x="15" y="572"/>
                    <a:pt x="13" y="600"/>
                    <a:pt x="29" y="618"/>
                  </a:cubicBezTo>
                  <a:cubicBezTo>
                    <a:pt x="66" y="661"/>
                    <a:pt x="127" y="667"/>
                    <a:pt x="177" y="673"/>
                  </a:cubicBezTo>
                  <a:cubicBezTo>
                    <a:pt x="327" y="664"/>
                    <a:pt x="311" y="694"/>
                    <a:pt x="348" y="587"/>
                  </a:cubicBezTo>
                  <a:cubicBezTo>
                    <a:pt x="363" y="424"/>
                    <a:pt x="373" y="357"/>
                    <a:pt x="340" y="143"/>
                  </a:cubicBezTo>
                  <a:cubicBezTo>
                    <a:pt x="335" y="112"/>
                    <a:pt x="293" y="96"/>
                    <a:pt x="286" y="6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942840"/>
          <a:ext cx="822960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284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29868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" y="522360"/>
                <a:ext cx="336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LLEL 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352680"/>
                <a:ext cx="246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29200" y="34290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4043520"/>
                <a:ext cx="21207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4343400"/>
                <a:ext cx="2654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86000" y="4952880"/>
                <a:ext cx="2286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0880" y="6095880"/>
                <a:ext cx="3403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25760" y="5486400"/>
                <a:ext cx="294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43600" y="369720"/>
                <a:ext cx="308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RIES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684520" y="2954160"/>
            <a:ext cx="2957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1320" y="41148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97680" y="358128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/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  &amp;replace valu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4120" y="4762440"/>
                <a:ext cx="286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489640" y="5334120"/>
            <a:ext cx="2736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0.5     und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1.0    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2.0     ov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33400" y="2801880"/>
            <a:ext cx="2766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assify the respons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given values of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440" y="135000"/>
            <a:ext cx="224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62120" y="5486400"/>
                <a:ext cx="558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629928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criminan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1800" y="135000"/>
            <a:ext cx="2730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9640" y="609480"/>
            <a:ext cx="334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895480" y="990720"/>
                <a:ext cx="3175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38080" y="2057400"/>
                <a:ext cx="24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66680" y="2743200"/>
                <a:ext cx="2032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66680" y="336384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0" y="1981080"/>
                <a:ext cx="3835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26160" y="2743200"/>
                <a:ext cx="1523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3352680"/>
                <a:ext cx="2361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14880" y="4038480"/>
                <a:ext cx="25524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09880" y="4713120"/>
                <a:ext cx="1524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09880" y="53341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828800" y="533520"/>
          <a:ext cx="598644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98644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90920" y="76320"/>
                <a:ext cx="245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73800" y="152280"/>
                <a:ext cx="2260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666880"/>
                <a:ext cx="3073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8600" y="33526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4038480"/>
                <a:ext cx="30733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52480" y="443376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52280" y="4800600"/>
                <a:ext cx="3251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28600" y="5638680"/>
                <a:ext cx="2158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4822920" y="2590920"/>
            <a:ext cx="3884040" cy="863640"/>
            <a:chOff x="4822920" y="2590920"/>
            <a:chExt cx="3884040" cy="863640"/>
          </a:xfrm>
        </p:grpSpPr>
        <p:sp>
          <p:nvSpPr>
            <p:cNvPr id="249" name=""/>
            <p:cNvSpPr/>
            <p:nvPr/>
          </p:nvSpPr>
          <p:spPr>
            <a:xfrm>
              <a:off x="4822920" y="2590920"/>
              <a:ext cx="3884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 constants we n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910120" y="2895480"/>
                  <a:ext cx="1396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788000" y="3809880"/>
                <a:ext cx="267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4800600" y="4114800"/>
            <a:ext cx="2933640" cy="838080"/>
            <a:chOff x="4800600" y="4114800"/>
            <a:chExt cx="2933640" cy="83808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4114800"/>
                  <a:ext cx="1485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CL  AT 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800600" y="4394160"/>
                  <a:ext cx="2933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105520" y="5029200"/>
                <a:ext cx="284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73520" y="5638680"/>
                <a:ext cx="355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486400" y="63244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438280" y="990720"/>
            <a:ext cx="4267440" cy="838080"/>
            <a:chOff x="2438280" y="990720"/>
            <a:chExt cx="4267440" cy="838080"/>
          </a:xfrm>
        </p:grpSpPr>
        <p:grpSp>
          <p:nvGrpSpPr>
            <p:cNvPr id="262" name=""/>
            <p:cNvGrpSpPr/>
            <p:nvPr/>
          </p:nvGrpSpPr>
          <p:grpSpPr>
            <a:xfrm>
              <a:off x="2438280" y="990720"/>
              <a:ext cx="4267440" cy="838080"/>
              <a:chOff x="2438280" y="990720"/>
              <a:chExt cx="4267440" cy="838080"/>
            </a:xfrm>
          </p:grpSpPr>
          <p:sp>
            <p:nvSpPr>
              <p:cNvPr id="263" name=""/>
              <p:cNvSpPr/>
              <p:nvPr/>
            </p:nvSpPr>
            <p:spPr>
              <a:xfrm>
                <a:off x="2438280" y="1143000"/>
                <a:ext cx="0" cy="685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2514600" y="12952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648320" y="11430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400800" y="10666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80880" y="19810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348360" y="3352680"/>
            <a:ext cx="9626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4021200"/>
            <a:ext cx="8193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66440" y="4829040"/>
            <a:ext cx="8665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2640" y="5545080"/>
            <a:ext cx="12445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600" y="6459480"/>
            <a:ext cx="2706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5: FIND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740560" y="3505320"/>
                <a:ext cx="332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NOT  GIVEN  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806240" y="3868560"/>
            <a:ext cx="13147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02:20:47Z</dcterms:created>
  <dc:creator>Jorge Aravena</dc:creator>
  <dc:description/>
  <dc:language>en-US</dc:language>
  <cp:lastModifiedBy>Jorge Aravena</cp:lastModifiedBy>
  <dcterms:modified xsi:type="dcterms:W3CDTF">2004-08-20T19:34:50Z</dcterms:modified>
  <cp:revision>15</cp:revision>
  <dc:subject/>
  <dc:title>No Slide Title</dc:title>
</cp:coreProperties>
</file>